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2EE-EE19-4F9C-8F22-3FD606EB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8F3-CCBD-4120-B8FA-779B2C7C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23F-981E-4AFA-BAAB-6EE59A17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FB9-AA8A-4076-ABB1-D7180945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5D3-3C3D-4B8D-AF62-7A778EF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BB2-81A0-4858-9DDE-6BBC921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FEE-229D-400B-A149-CE314912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648-A8DC-4714-82CB-768D8E19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4D1-8C04-426C-A7C7-6A14FA02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279-B57B-42A3-BFF2-9D8A539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D29-A237-4508-90F8-300C3A4C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86E-94F0-45C2-A0E6-3694382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FF6-61C1-40D2-8458-7015F8AF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hatwg.org/specs/web-apps/current-work/multipage/dnd.html" TargetMode="External"/><Relationship Id="rId2" Type="http://schemas.openxmlformats.org/officeDocument/2006/relationships/hyperlink" Target="https://datatracker.ietf.org/doc/draft-cbran-rtcweb-protocols/" TargetMode="External"/><Relationship Id="rId3" Type="http://schemas.openxmlformats.org/officeDocument/2006/relationships/hyperlink" Target="https://datatracker.ietf.org/doc/draft-alvestrand-rtcweb-overview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Non-Media Data in RTC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G chair’s discussion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ynamic meta data for Conference and other real-tim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aming data with low latenc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Derived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Unreliable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ize limited by M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ragmentation by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 latency, i.e. Peer to Peer pref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ngestion Controlled, to be network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ntegrit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ource 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viding consent to receive data prior to allow transmission of substantial amount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nsens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n the mailing list there was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ne view is that general P2P non-media data transfer in the solution just is unneccessary complexities for the Real-tim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thers disagreed and supported non-media data in various w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s there consensus for the need of a solution fulfilling the requirements on previous sl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Do we need Reli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o we have need for a general solution that attempts to b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If NAT/FW traversal fails still fallback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eliabel message or byte-stream can be built on top of unreliable dat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Java Script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tandardized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Go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o we have interested parties to work on a solution for the W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lternatives so far publicly propo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an Hickson’s Framing over UDP: </a:t>
            </a:r>
            <a:r>
              <a:rPr b="0" lang="sv-S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hatwg.org/specs/web-apps/current-work/multipage/dnd.html#the-data-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TLS/DCCP/UDP: </a:t>
            </a:r>
            <a:r>
              <a:rPr b="0" lang="sv-S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datatracker.ietf.org/doc/draft-cbran-rtcweb-protoc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ata over RTP/UDP: </a:t>
            </a:r>
            <a:r>
              <a:rPr b="0" lang="sv-SE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datatracker.ietf.org/doc/draft-alvestrand-rtcweb-overvie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8:52:57Z</dcterms:created>
  <dc:creator>eramswd</dc:creator>
  <dc:description/>
  <dc:language>en-US</dc:language>
  <cp:lastModifiedBy>eramswd</cp:lastModifiedBy>
  <dcterms:modified xsi:type="dcterms:W3CDTF">2011-06-08T13:10:37Z</dcterms:modified>
  <cp:revision>8</cp:revision>
  <dc:subject/>
  <dc:title>Non-Media Data in RTCWEB</dc:title>
</cp:coreProperties>
</file>